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FCD-4E6B-41BE-BFA9-441C59B5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528-5FD5-4610-9B3E-5F37CF0B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57B-29B6-413F-ADCA-7A518EDF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FEA-5AA4-4840-BE4F-55ECA966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5A3-4BE2-488B-8A86-27A37FB2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898-459C-4028-A362-8091880C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697-AD7B-4EC7-B970-C20DD195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169-F846-438C-80A6-700344DF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F9F-EE75-40F7-9359-07BACCF2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C25-0BAA-4BBC-9438-BE9B18E4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D97-F3BA-4A24-BEBC-A908F97C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D20-AFC2-4FDB-B86C-7B85772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e6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1EAA-AE24-4B30-8E0C-5A1F9E44D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3480" y="30240"/>
            <a:ext cx="914076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3280" y="69228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Гуманитарный проект учреждения здравоохранения «Марьиногорская центральная районная больница» ищет спонсор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s://pyatochkin.ru/images/images/2.jpg"/>
          <p:cNvPicPr/>
          <p:nvPr/>
        </p:nvPicPr>
        <p:blipFill>
          <a:blip r:embed="rId1"/>
          <a:stretch/>
        </p:blipFill>
        <p:spPr>
          <a:xfrm>
            <a:off x="0" y="-14400"/>
            <a:ext cx="9172440" cy="68724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 rot="20540400">
            <a:off x="352800" y="1116000"/>
            <a:ext cx="60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32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 проект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179280" y="104292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«СОВРЕМЕННОЕ ОБОРУДОВАНИЕ - ПОМОЖЕМ РОДИТЬСЯ ЗДОРОВЫ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324000" y="2971800"/>
            <a:ext cx="46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рок реализации проекта: 1 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79280" y="4292640"/>
            <a:ext cx="542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рганизация-заявитель, предлагающая проек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чреждение здравоохранения «Марьиногорская центральная районная больниц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6405480" y="2755800"/>
            <a:ext cx="2660760" cy="38102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6405480" y="6093000"/>
            <a:ext cx="2660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sculap AG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 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025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проекта: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108000" y="907920"/>
            <a:ext cx="8928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казание помощи пр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и признаков внутриутробного страдания плода или нарастание их тяжести во втором периоде род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й гипоксии при нахождении головки плода в выходе малого таз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и родовой деятельности во втором периоде род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м поперечном стоянии стреловидного шв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нклитическом вставлении головки плода, препятствующем нормальному течению род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дении головки плода при операции кесарево-сеч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ланированное укорочение второго периода родов при наличии экстраreнитальной патологии, когда длительные и сильные потуги противопоказа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4840" y="188640"/>
            <a:ext cx="8163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, планируемые к выполнению в рамках реализации проекта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611280" y="2276640"/>
            <a:ext cx="82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еспечение благоприятного исхода беременности и родов для матери и пл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4840" y="188640"/>
            <a:ext cx="81630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евая групп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324000" y="1392120"/>
            <a:ext cx="46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Женское население Пуховичского района, а также жители близлежащих район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s://chicagofamilyplanning.files.wordpress.com/2013/11/device_02_big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4840" y="189000"/>
            <a:ext cx="8163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е описание мероприятий в рамках проекта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179280" y="1413000"/>
            <a:ext cx="8964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1. подготовка проекта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2. проведение процедуры закупки медицинского оборудования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3. установка оборудования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4. обучение медицинского персонал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djankoiadm.ru/photosnews/8869/807e7e7ba1a1f2f708c332110401534e.jpg"/>
          <p:cNvPicPr/>
          <p:nvPr/>
        </p:nvPicPr>
        <p:blipFill>
          <a:blip r:embed="rId1"/>
          <a:stretch/>
        </p:blipFill>
        <p:spPr>
          <a:xfrm>
            <a:off x="0" y="1584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4840" y="189000"/>
            <a:ext cx="8163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нансиров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90360" y="1025640"/>
            <a:ext cx="918864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0ac6"/>
                </a:solidFill>
                <a:latin typeface="Times New Roman"/>
                <a:ea typeface="Calibri"/>
              </a:rPr>
              <a:t>Сумма финансировани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70ac6"/>
                </a:solidFill>
                <a:latin typeface="Times New Roman"/>
                <a:ea typeface="Calibri"/>
              </a:rPr>
              <a:t>           </a:t>
            </a:r>
            <a:r>
              <a:rPr b="1" lang="en-US" sz="5400" spc="-1" strike="noStrike">
                <a:solidFill>
                  <a:srgbClr val="170ac6"/>
                </a:solidFill>
                <a:latin typeface="Times New Roman"/>
                <a:ea typeface="Calibri"/>
              </a:rPr>
              <a:t>12500 $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imes New Roman"/>
                <a:ea typeface="Calibri"/>
              </a:rPr>
              <a:t>Источник финансировани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Calibri"/>
              </a:rPr>
              <a:t>СПОНСОР </a:t>
            </a:r>
            <a:r>
              <a:rPr b="1" lang="ru-RU" sz="5400" spc="-1" strike="noStrike">
                <a:solidFill>
                  <a:srgbClr val="ff00ff"/>
                </a:solidFill>
                <a:latin typeface="Times New Roman"/>
                <a:ea typeface="Calibri"/>
              </a:rPr>
              <a:t>– 11250 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  <a:ea typeface="Calibri"/>
              </a:rPr>
              <a:t>$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  <a:ea typeface="Calibri"/>
              </a:rPr>
              <a:t>СОБСТВЕННЫЕ СРЕДСТВА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– 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1250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$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ideyadoma.by/wp-content/uploads/2019/02/9ob600x400.jpg"/>
          <p:cNvPicPr/>
          <p:nvPr/>
        </p:nvPicPr>
        <p:blipFill>
          <a:blip r:embed="rId1"/>
          <a:stretch/>
        </p:blipFill>
        <p:spPr>
          <a:xfrm>
            <a:off x="0" y="19080"/>
            <a:ext cx="9163080" cy="683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4840" y="189000"/>
            <a:ext cx="8163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то  реализации проек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08000" y="1628640"/>
            <a:ext cx="871200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Учреждение здравоохра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«Марьиногорская центральная районная больниц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улица Калинина, 5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город Марьина Го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Пуховичский рай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Минская обл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14400"/>
            <a:ext cx="917424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2320" y="115560"/>
            <a:ext cx="8163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акт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08000" y="1628640"/>
            <a:ext cx="87120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c090"/>
                </a:solidFill>
                <a:latin typeface="Times New Roman"/>
                <a:ea typeface="Calibri"/>
              </a:rPr>
              <a:t>Главный врач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Жаринова Людмила Владими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c090"/>
                </a:solidFill>
                <a:latin typeface="Times New Roman"/>
                <a:ea typeface="Calibri"/>
              </a:rPr>
              <a:t>Контактные дан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телефоны: +375171335715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приемная +37517133544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электронный адрес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info@mgorka-crb.b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2T15:07:15Z</dcterms:created>
  <dc:creator>Дерушко Анна</dc:creator>
  <dc:description/>
  <dc:language>en-US</dc:language>
  <cp:lastModifiedBy>Дерушко Анна</cp:lastModifiedBy>
  <dcterms:modified xsi:type="dcterms:W3CDTF">2019-08-27T09:22:06Z</dcterms:modified>
  <cp:revision>22</cp:revision>
  <dc:subject/>
  <dc:title>Гуманитарный проект учреждения здравоохранения «Марьиногорская центральная районная больница» ищет спонсоров</dc:title>
</cp:coreProperties>
</file>